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FD1-50DB-40D0-9664-9D762FD3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6E1-6378-4404-9F92-3F5D808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DA1-3902-48E5-8FA2-DF06BD64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17E-1A9B-43E8-A3CF-D68BD335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1DF-9785-437A-90BB-161E5033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403-08F8-44FE-9264-434B137E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0EE-F36E-4FEA-A802-B5ED22A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FFA-AB84-46B3-B36D-DA747101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6539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D4E-0527-4FEB-92B0-39168975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0AB-8832-4C99-9D2E-446C8C8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E4F-1EF4-4F8F-93F2-CD16300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728-940A-41E2-9103-9E7717A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6539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-10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3280"/>
            <a:ext cx="2890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© K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6664E-C879-49A1-9F98-B6DE97D20FE7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53120" y="285840"/>
            <a:ext cx="2090880" cy="10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Terugkoppeling expertgro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Utrecht - StUF Regiegroep - 27/10/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700" spc="-1" strike="noStrike">
                <a:solidFill>
                  <a:srgbClr val="898989"/>
                </a:solidFill>
                <a:latin typeface="Calibri"/>
              </a:rPr>
              <a:t>Maarten van den Br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Onderwer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tie sectormodel en koppelv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Koppelvlak BAG-W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da5c21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da5c21"/>
                </a:solidFill>
                <a:latin typeface="Calibri"/>
                <a:ea typeface="SimSun"/>
              </a:rPr>
              <a:t>Aanpassing beheer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UML-modellering informatiemod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Definieer koppelvlak terugmelden (Cen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200" spc="-1" strike="noStrike">
                <a:solidFill>
                  <a:srgbClr val="da5c21"/>
                </a:solidFill>
                <a:latin typeface="Calibri"/>
              </a:rPr>
              <a:t>Behandelen RFC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-37620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0068"/>
                </a:solidFill>
                <a:latin typeface="Calibri"/>
              </a:rPr>
              <a:t>Sectormodel / koppelvlak (1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-2091600" y="3331080"/>
            <a:ext cx="504504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519480" y="161820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086840" y="1549080"/>
            <a:ext cx="1619280" cy="49860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1816920" y="1492920"/>
            <a:ext cx="1619280" cy="611280"/>
          </a:xfrm>
          <a:prstGeom prst="roundRect">
            <a:avLst>
              <a:gd name="adj" fmla="val 25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0480" y="992160"/>
            <a:ext cx="3791160" cy="311040"/>
          </a:xfrm>
          <a:prstGeom prst="roundRect">
            <a:avLst>
              <a:gd name="adj" fmla="val 50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ontvangAsynchroon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1640" y="1619280"/>
            <a:ext cx="3780000" cy="287280"/>
          </a:xfrm>
          <a:prstGeom prst="roundRect">
            <a:avLst>
              <a:gd name="adj" fmla="val 55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eantwoordVraa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0480" y="2273400"/>
            <a:ext cx="3791160" cy="318960"/>
          </a:xfrm>
          <a:prstGeom prst="roundRect">
            <a:avLst>
              <a:gd name="adj" fmla="val 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verwerkSynchroneKennisgeving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94120" y="436464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stuf031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798840" y="436464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bg0311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302120" y="4364640"/>
            <a:ext cx="2070000" cy="360360"/>
          </a:xfrm>
          <a:prstGeom prst="roundRect">
            <a:avLst>
              <a:gd name="adj" fmla="val 44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basis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35200" y="3514680"/>
            <a:ext cx="156708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5200" y="4307040"/>
            <a:ext cx="156708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35200" y="5099040"/>
            <a:ext cx="156708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27560" y="3514680"/>
            <a:ext cx="204480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lv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27560" y="4307040"/>
            <a:ext cx="204480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proces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27560" y="5099040"/>
            <a:ext cx="2044800" cy="450720"/>
          </a:xfrm>
          <a:prstGeom prst="roundRect">
            <a:avLst>
              <a:gd name="adj" fmla="val 352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woz0311.tiox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62720" y="3519360"/>
            <a:ext cx="1104840" cy="270000"/>
          </a:xfrm>
          <a:prstGeom prst="roundRect">
            <a:avLst>
              <a:gd name="adj" fmla="val 58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62720" y="4307040"/>
            <a:ext cx="1104840" cy="245880"/>
          </a:xfrm>
          <a:prstGeom prst="roundRect">
            <a:avLst>
              <a:gd name="adj" fmla="val 64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4120" y="2610000"/>
            <a:ext cx="144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6651360" y="3832200"/>
            <a:ext cx="327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651720" y="4578480"/>
            <a:ext cx="326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720" y="5099040"/>
            <a:ext cx="1104840" cy="282600"/>
          </a:xfrm>
          <a:prstGeom prst="roundRect">
            <a:avLst>
              <a:gd name="adj" fmla="val 560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651360" y="5405400"/>
            <a:ext cx="327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-1654920" y="3355200"/>
            <a:ext cx="5045040" cy="31248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2480" y="5759280"/>
            <a:ext cx="257472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3280" y="6462720"/>
            <a:ext cx="474840" cy="25704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800" y="6419880"/>
            <a:ext cx="2346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Namespace StUF0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12920" y="6462720"/>
            <a:ext cx="474840" cy="257040"/>
          </a:xfrm>
          <a:prstGeom prst="roundRect">
            <a:avLst>
              <a:gd name="adj" fmla="val 6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9440" y="6419880"/>
            <a:ext cx="210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Namespace bg0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07240" y="6473880"/>
            <a:ext cx="474480" cy="257040"/>
          </a:xfrm>
          <a:prstGeom prst="roundRect">
            <a:avLst>
              <a:gd name="adj" fmla="val 616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3400" y="6432480"/>
            <a:ext cx="224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Namespace woz03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6543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cc0068"/>
                </a:solidFill>
                <a:latin typeface="Calibri"/>
              </a:rPr>
              <a:t>Sectormodel / koppelvlak (2)</a:t>
            </a:r>
            <a:endParaRPr b="0" lang="en-US" sz="4000" spc="-1" strike="noStrike">
              <a:solidFill>
                <a:srgbClr val="cc0068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88920" y="1619280"/>
            <a:ext cx="7831080" cy="369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50920" y="1800360"/>
            <a:ext cx="1189080" cy="315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48000" y="30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448000" y="3959280"/>
            <a:ext cx="6265800" cy="81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448000" y="2158920"/>
            <a:ext cx="6265800" cy="81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-1991880" y="3796560"/>
            <a:ext cx="4630680" cy="276120"/>
          </a:xfrm>
          <a:prstGeom prst="roundRect">
            <a:avLst>
              <a:gd name="adj" fmla="val 574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77480" y="3365280"/>
            <a:ext cx="2519280" cy="360360"/>
          </a:xfrm>
          <a:prstGeom prst="roundRect">
            <a:avLst>
              <a:gd name="adj" fmla="val 440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744840" y="3296160"/>
            <a:ext cx="2519280" cy="498600"/>
          </a:xfrm>
          <a:prstGeom prst="roundRect">
            <a:avLst>
              <a:gd name="adj" fmla="val 31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ent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64000" y="230364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99200" y="232416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-1592640" y="3778200"/>
            <a:ext cx="4630680" cy="312840"/>
          </a:xfrm>
          <a:prstGeom prst="roundRect">
            <a:avLst>
              <a:gd name="adj" fmla="val 509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typ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7760" y="5975280"/>
            <a:ext cx="2575080" cy="257400"/>
          </a:xfrm>
          <a:prstGeom prst="roundRect">
            <a:avLst>
              <a:gd name="adj" fmla="val 616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stuf0301.services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6793920" y="257328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64000" y="3168720"/>
            <a:ext cx="1571760" cy="57636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99200" y="318780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6793920" y="3438360"/>
            <a:ext cx="436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230364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ms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21080" y="3168720"/>
            <a:ext cx="1817640" cy="57636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bag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0" y="4032360"/>
            <a:ext cx="1571760" cy="576000"/>
          </a:xfrm>
          <a:prstGeom prst="roundRect">
            <a:avLst>
              <a:gd name="adj" fmla="val 27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99200" y="4052880"/>
            <a:ext cx="1109520" cy="268200"/>
          </a:xfrm>
          <a:prstGeom prst="roundRect">
            <a:avLst>
              <a:gd name="adj" fmla="val 59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.....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6793920" y="426564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21080" y="4032360"/>
            <a:ext cx="1817640" cy="576000"/>
          </a:xfrm>
          <a:prstGeom prst="roundRect">
            <a:avLst>
              <a:gd name="adj" fmla="val 2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SimSun"/>
              </a:rPr>
              <a:t>bgstuf0310.3610.x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490640" y="477036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19000" y="5346720"/>
            <a:ext cx="4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Spelregels 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Sectormodel bestaat uit kern +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ern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Toevoegen koppelvlak → geen nieuwe versie, maar uitbr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Wijzigen koppelvlak ná toevoeging → nieuwe 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da5c2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Expertgroep beslist over toevoegen koppelv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82080"/>
            <a:ext cx="65437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cc0068"/>
                </a:solidFill>
                <a:latin typeface="Calibri"/>
              </a:rPr>
              <a:t>Voorstel</a:t>
            </a:r>
            <a:endParaRPr b="0" lang="en-US" sz="4400" spc="-1" strike="noStrike">
              <a:solidFill>
                <a:srgbClr val="cc0068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beheermodel aan en keur goed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in volgende regiegroep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Voeg koppelvlak BAG-WOZ toe in bg0310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-457200">
              <a:buClr>
                <a:srgbClr val="da5c21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5c21"/>
                </a:solidFill>
                <a:latin typeface="Calibri"/>
              </a:rPr>
              <a:t>Pas structuur schema's aan als erratum</a:t>
            </a: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  <a:p>
            <a:pPr marL="457200" indent="0"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da5c21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13:03Z</dcterms:created>
  <dc:creator>Peter Klaver</dc:creator>
  <dc:description/>
  <dc:language>en-US</dc:language>
  <cp:lastModifiedBy>Peter</cp:lastModifiedBy>
  <dcterms:modified xsi:type="dcterms:W3CDTF">2010-02-17T11:58:30Z</dcterms:modified>
  <cp:revision>3</cp:revision>
  <dc:subject/>
  <dc:title>Werkplan StUF 2010</dc:title>
</cp:coreProperties>
</file>